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E91-27CF-4FD2-81B9-3AA7D383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2FF-7E65-4AE2-8033-89BFF008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9CF-ACE0-4DE6-A7B1-B1DF4B6E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673-23C7-4BCF-9EDB-1C448323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301-5390-42DD-A7B3-BEEE70F5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7A8-8650-4B09-BE2B-27E63ABF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FCB-BE69-4DEE-BF8B-5E6BD38B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23C-7917-415E-9DF5-FCB98BC3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3C8-17AF-4258-98EA-363C12A7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1C8-0F53-4EEF-841F-4A4FDB3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84E-2C81-4AA3-8B93-C464BD6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941-DDC0-4540-96A9-671781EC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E33D-5A74-431E-9253-67ED07F28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76500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67280" y="21337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16360" y="3213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u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781cb371d30414592581a814d8f2e19b"/>
          <p:cNvPicPr/>
          <p:nvPr/>
        </p:nvPicPr>
        <p:blipFill>
          <a:blip r:embed="rId2"/>
          <a:stretch/>
        </p:blipFill>
        <p:spPr>
          <a:xfrm>
            <a:off x="900000" y="3213000"/>
            <a:ext cx="25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87280" y="3068640"/>
            <a:ext cx="66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  brown   down  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    bird    first  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 brother   with   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 lunch   teacher 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  night   right 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a3a45fee7de5a13cc3e5c559788664f"/>
          <p:cNvPicPr/>
          <p:nvPr/>
        </p:nvPicPr>
        <p:blipFill>
          <a:blip r:embed="rId1"/>
          <a:stretch/>
        </p:blipFill>
        <p:spPr>
          <a:xfrm>
            <a:off x="6443640" y="404640"/>
            <a:ext cx="1866960" cy="194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333360"/>
            <a:ext cx="424800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u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8728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et’s rea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57e86d5511667edc9f0bce7852a59cc0"/>
          <p:cNvPicPr/>
          <p:nvPr/>
        </p:nvPicPr>
        <p:blipFill>
          <a:blip r:embed="rId1"/>
          <a:stretch/>
        </p:blipFill>
        <p:spPr>
          <a:xfrm>
            <a:off x="5867280" y="40464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826920" y="3068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ackboard, plant, desk, teacher’s table, listen, ask questions, learn by heart, translate, retell, write, read, draw, count, copy, sing songs, dictionary, ruler, paints, text book, pencil, rubber, pen, felt-tip pen,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332000" y="620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t’s spea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567674cabbaea15b9adc4492521bcf4"/>
          <p:cNvPicPr/>
          <p:nvPr/>
        </p:nvPicPr>
        <p:blipFill>
          <a:blip r:embed="rId1"/>
          <a:stretch/>
        </p:blipFill>
        <p:spPr>
          <a:xfrm>
            <a:off x="6443640" y="404640"/>
            <a:ext cx="193824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763640" y="3284640"/>
          <a:ext cx="5905440" cy="222876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.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36"/>
          <p:cNvSpPr/>
          <p:nvPr/>
        </p:nvSpPr>
        <p:spPr>
          <a:xfrm>
            <a:off x="32400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What do you usually do at the lessons</a:t>
            </a: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61128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 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is"/>
          <p:cNvPicPr/>
          <p:nvPr/>
        </p:nvPicPr>
        <p:blipFill>
          <a:blip r:embed="rId2"/>
          <a:stretch/>
        </p:blipFill>
        <p:spPr>
          <a:xfrm>
            <a:off x="3995640" y="558972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2"/>
          <p:cNvSpPr/>
          <p:nvPr/>
        </p:nvSpPr>
        <p:spPr>
          <a:xfrm>
            <a:off x="543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 th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42920" y="981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Let’s matc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ddde47ac664b7ad977fa92beabff8f0"/>
          <p:cNvPicPr/>
          <p:nvPr/>
        </p:nvPicPr>
        <p:blipFill>
          <a:blip r:embed="rId1"/>
          <a:stretch/>
        </p:blipFill>
        <p:spPr>
          <a:xfrm>
            <a:off x="6300720" y="26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71640" y="2349360"/>
            <a:ext cx="2735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ette rec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24360" y="2276640"/>
            <a:ext cx="3240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st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03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need __________ fo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t’s compl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cda5503d5f85810b7cdce4b8154490c"/>
          <p:cNvPicPr/>
          <p:nvPr/>
        </p:nvPicPr>
        <p:blipFill>
          <a:blip r:embed="rId2"/>
          <a:stretch/>
        </p:blipFill>
        <p:spPr>
          <a:xfrm>
            <a:off x="6227640" y="33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628640"/>
            <a:ext cx="7416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t, read, we, Russian, usually,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like, the break, to play, we, d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ny,  are, our, in, there, desk, classr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bag, I, different, have, my, paints,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nglish, from, translate, into, usually, we, Russi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26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trans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472a72d975bcc792f4889b06846bb0c"/>
          <p:cNvPicPr/>
          <p:nvPr/>
        </p:nvPicPr>
        <p:blipFill>
          <a:blip r:embed="rId2"/>
          <a:stretch/>
        </p:blipFill>
        <p:spPr>
          <a:xfrm>
            <a:off x="6443640" y="1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1700280"/>
            <a:ext cx="4897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English into R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eacher’s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l the fairy-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68360" y="4221000"/>
            <a:ext cx="395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Russian into Englis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 тек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ть по-англий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наиз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кар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076720" y="213372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ть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ь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ывать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4653000"/>
            <a:ext cx="38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he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8360" y="1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836640"/>
          <a:ext cx="5397480" cy="53640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136"/>
          <p:cNvSpPr/>
          <p:nvPr/>
        </p:nvSpPr>
        <p:spPr>
          <a:xfrm>
            <a:off x="6588000" y="907920"/>
            <a:ext cx="2016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07:19Z</dcterms:created>
  <dc:creator>Natalia</dc:creator>
  <dc:description/>
  <dc:language>en-US</dc:language>
  <cp:lastModifiedBy>-</cp:lastModifiedBy>
  <dcterms:modified xsi:type="dcterms:W3CDTF">2013-04-29T21:10:14Z</dcterms:modified>
  <cp:revision>16</cp:revision>
  <dc:subject/>
  <dc:title>Слайд 1</dc:title>
</cp:coreProperties>
</file>